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4759-0D73-4C44-84F4-7BA92722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9993-585C-4B67-9390-D70B09C2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780-D8D0-4BB3-AC4B-45C9A016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AA4-7D3C-479A-B2AC-AC2BEF15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E46-AC24-4B87-A06E-081AA1EF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54B-AA73-4EC5-8CE4-1F21DC18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2CF-3929-4DD3-B6FF-926949E9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B25-469D-47E1-A396-A3F8319F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641-F963-4AA5-83EA-B6E1E048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727-2968-4F7C-AD8B-F72924C9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5A1-D44F-49EC-B930-12153754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7D1-BD5E-4779-8E53-DFFB5B4F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771F-169A-4EC3-BD71-6A15602731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e llamo __________ Clase 6 NH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La fecha es el 2 de noviembre del 2011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a219"/>
                </a:solidFill>
                <a:latin typeface="Arial"/>
              </a:rPr>
              <a:t>Proposito 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¿Cual es la diferencia entre Halloween y El dia de los muert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a219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rar las presentaciones de PowerPoint y tomar notas activas en el cuader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er el articul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 muralismo mexica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ezar el PROYECTO 1: MI CALA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a219"/>
                </a:solidFill>
                <a:latin typeface="Arial"/>
              </a:rPr>
              <a:t>Tarea 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er tijeras, goma, lapices de colores para el vier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38:15Z</dcterms:created>
  <dc:creator>Helen Zumaeta</dc:creator>
  <dc:description/>
  <dc:language>en-US</dc:language>
  <cp:lastModifiedBy>Helen Zumaeta</cp:lastModifiedBy>
  <dcterms:modified xsi:type="dcterms:W3CDTF">2011-11-02T13:38:26Z</dcterms:modified>
  <cp:revision>1</cp:revision>
  <dc:subject/>
  <dc:title>Me llamo __________ Clase 6 NH La fecha es el 2 de noviembre del 2011</dc:title>
</cp:coreProperties>
</file>